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B29-D209-4729-AEBD-7222FCD3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1DD-E8F9-4082-88DE-168AF6A4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ED1-0100-48EA-9786-E401A39D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CF7-837D-4454-8DFC-92BCAF07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B36-B3B5-4A7D-8F9E-C611285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EEA-F06C-4542-BBCB-4FD2C8A2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694-E566-4A21-A72C-12B2963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A37-AC55-4366-AEFF-3B1F2FC0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EBC-37FD-459D-AF65-6806BE8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4B3-8E1E-4023-A5A3-45E1B87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C71-E48B-48CB-B34D-836D911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763-5C5E-43DC-B555-FFF2089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A12-9980-417C-A6FC-738EB2F63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Writing for medical journ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9. Reviewers are often wr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intimi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pp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0. There is no such thing as a rejected manuscri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just another unsubmitted manu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. Know your top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up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your research in a way that contributes to current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. Know the jour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journals are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righ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verything is a Lancet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o editors why thi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journ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research, viewpoint, commentary, let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autho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3. 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s cred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4. All first drafts are rubb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y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people you trust: writing is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5. Avoid mistru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6. Unsubmitted manuscripts are anno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 draft out of your in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ass co-authors to send you back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o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7. Make editors’ lives easi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cet editors read c.60 manuscript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ir lif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ver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8. Take reviewers serious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every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as much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gree pol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8:51:57Z</dcterms:created>
  <dc:creator>Nathan</dc:creator>
  <dc:description/>
  <dc:language>en-US</dc:language>
  <cp:lastModifiedBy>TOR</cp:lastModifiedBy>
  <dcterms:modified xsi:type="dcterms:W3CDTF">2012-10-02T12:47:41Z</dcterms:modified>
  <cp:revision>13</cp:revision>
  <dc:subject/>
  <dc:title>When to start  A human rights analysis</dc:title>
</cp:coreProperties>
</file>